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ADB-7827-44A7-98D4-A846A944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676-299A-446D-B46A-C0852394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DCE-3BF0-4D0B-99D1-AEBECBF7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9C6-AB6E-47FA-A291-B9A825F5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02F-0D8F-4B47-864B-1A680033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7B8-A5F2-426C-95CA-BEC5A8F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2AC-7DA0-484A-AF2A-0272AC9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29F-9BE8-49E0-AF42-B07E38AB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368-3D5F-4950-A66B-13C097D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D21-DA18-4AFD-934C-E74E0D9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9F9-FF45-44FB-9E05-4A74E083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5BF-6115-4112-BE5A-27B18A7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94F9E-2ADA-4884-BB4C-D6949C420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hat are the effects of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global warming on water manag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5400720" cy="414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0360" y="0"/>
            <a:ext cx="3240360" cy="4859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0360"/>
            <a:ext cx="64800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440000"/>
            <a:ext cx="719928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only solution if we don't stop the global warming is to save drinking water and use rain and desalinated water to irrigate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4859280"/>
            <a:ext cx="2880000" cy="1800360"/>
          </a:xfrm>
          <a:prstGeom prst="wedgeEllipseCallout">
            <a:avLst>
              <a:gd name="adj1" fmla="val -84606"/>
              <a:gd name="adj2" fmla="val -3304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Save me, stop the global warmi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68000" y="16700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Gro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non PU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is VIGN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Quentin LE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Alexandre GAT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Marc-Antoine SAINT-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Created by :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2160720"/>
            <a:ext cx="4500720" cy="46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roduction: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Nowadays the world is warming, especially due to the huma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re are lots of consequ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We will explain to you one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Consequenc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elting of ice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 u="sng">
                <a:solidFill>
                  <a:srgbClr val="000000"/>
                </a:solidFill>
                <a:uFillTx/>
                <a:latin typeface="Comic Sans MS"/>
              </a:rPr>
              <a:t>The consequences are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drinking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Increase in the salt water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- Less icebe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0"/>
            <a:ext cx="590076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here are a l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of solution b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0000" y="582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00" y="468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920000" y="234000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920000" y="114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920000" y="34862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792000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0" y="18669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72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0" y="636588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0" y="306072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0" y="414036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0" y="5219640"/>
            <a:ext cx="216072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2160720" cy="11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3060720"/>
            <a:ext cx="9711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e will base ourse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more particularly o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transformation of sal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water into drinking water and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collection of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00360"/>
            <a:ext cx="4930920" cy="4859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For the tranformation in drinking water we found a solution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actories of desalinazation plans :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se factories used two method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he vacuum distillation, we heat the water until it boils and  evaporates, which leaves the salts and minerals u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The second method is  the filtering of water with  very  thin membranes where only water can pass throug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099280" y="-3780000"/>
            <a:ext cx="9576000" cy="684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0000" y="0"/>
            <a:ext cx="5400720" cy="395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4680000" cy="39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59280"/>
            <a:ext cx="6240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drinking water from these factories are often use to irrigat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nd the desalinazation is very expensive because it needs a lot of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ut the salt can be s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3960720"/>
            <a:ext cx="3780000" cy="3598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0000" y="-360"/>
            <a:ext cx="9720360" cy="66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026000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fr-FR" sz="3600" spc="-1" strike="noStrike" u="sng">
                <a:solidFill>
                  <a:srgbClr val="ff0000"/>
                </a:solidFill>
                <a:uFillTx/>
                <a:latin typeface="Comic Sans MS"/>
              </a:rPr>
              <a:t>Second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also collect the rain in tank wh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 use to irrigate 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(Fields use 70% of water consomation)</a:t>
            </a: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omic Sans MS"/>
              </a:rPr>
              <a:t>We can't drink it because there aren't minerals</a:t>
            </a:r>
            <a:r>
              <a:rPr b="0" lang="fr-FR" sz="2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